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8A8C-10ED-4284-91CE-7C0517EC0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592D-D1E1-4BF4-BFBF-D1E19ED95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9CA1-EE8A-4D84-86C3-0C21547C2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222B-8D49-4216-A585-4D7FA131A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6FD8F-72DB-43E1-95E5-ED5CD9413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95821-6BF4-48E8-9B5E-53D2A1846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F575D-28F7-4707-9FAE-84CA43878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A50B2-7587-40EF-BBDD-7CAA49FE7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85CB3-D5B7-44FE-8105-A735927F1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95EA0-236A-40F1-8AFA-EA42E46BA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C57C1-D5A4-428D-905C-1288FD1D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69E5-3781-41DB-ABD7-583B7C5E0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A4C98-BFFB-4C62-A99A-8250E295C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5F80B-4931-4643-9783-2164FDD43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25CC1-1390-45BF-8DE2-35A7D7145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9A958-6206-4D6F-9FF4-203519BF2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AA3D1-5764-4C58-9424-637D6AA37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580B-53DD-4B1E-A0EA-FD06F586C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2875-6640-4203-B309-FCBAE6E2F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6D78-EEB7-45D9-8373-CD1B3623E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7F6F-5540-4069-994F-BDA308F5E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9C2B-3662-4E3E-9587-20DA2910E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E5AA-4797-43F5-82A6-F58629977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81D0-0176-46FA-8CA4-843CCFFCB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aaaac6"/>
                </a:gs>
                <a:gs pos="50000">
                  <a:srgbClr val="ffffff"/>
                </a:gs>
                <a:gs pos="100000">
                  <a:srgbClr val="aaaa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aaaac6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aaaac6"/>
                </a:gs>
                <a:gs pos="50000">
                  <a:srgbClr val="ffffff"/>
                </a:gs>
                <a:gs pos="100000">
                  <a:srgbClr val="aaaa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aaaac6"/>
                </a:gs>
                <a:gs pos="50000">
                  <a:srgbClr val="ffffff"/>
                </a:gs>
                <a:gs pos="100000">
                  <a:srgbClr val="aaaa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aaac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aaa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aaac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2915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AB588-CA70-4D81-B63D-583B56602EF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aaaac6"/>
                </a:gs>
                <a:gs pos="50000">
                  <a:srgbClr val="ffffff"/>
                </a:gs>
                <a:gs pos="100000">
                  <a:srgbClr val="aaaa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aaaac6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aaaac6"/>
                </a:gs>
                <a:gs pos="50000">
                  <a:srgbClr val="ffffff"/>
                </a:gs>
                <a:gs pos="100000">
                  <a:srgbClr val="aaaa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aaaac6"/>
                </a:gs>
                <a:gs pos="50000">
                  <a:srgbClr val="ffffff"/>
                </a:gs>
                <a:gs pos="100000">
                  <a:srgbClr val="aaaa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aaac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aaa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aaac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2915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B7F6A-0CCE-42BB-A2F9-6FAB200A520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Edtech2"/>
          <p:cNvPicPr/>
          <p:nvPr/>
        </p:nvPicPr>
        <p:blipFill>
          <a:blip r:embed="rId1"/>
          <a:stretch/>
        </p:blipFill>
        <p:spPr>
          <a:xfrm>
            <a:off x="762120" y="762120"/>
            <a:ext cx="761976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2T00:08:15Z</dcterms:created>
  <dc:creator>Student</dc:creator>
  <dc:description/>
  <dc:language>en-US</dc:language>
  <cp:lastModifiedBy>emachine</cp:lastModifiedBy>
  <dcterms:modified xsi:type="dcterms:W3CDTF">2012-07-19T14:04:21Z</dcterms:modified>
  <cp:revision>3</cp:revision>
  <dc:subject/>
  <dc:title>Slide 1</dc:title>
</cp:coreProperties>
</file>